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A0B-9CE5-481D-B662-5E6EF8B3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1A8-FE73-4B7E-ABDB-8724A0FD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80D-09F5-426D-927A-7624721F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BD9-360D-4A7E-A947-322B6B18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352-24D7-40E9-AE80-485130C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062-7A5F-4ABD-9B36-44C40BB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5E1-1001-4F82-95AE-026A8397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06F-3B22-416E-BB86-A8DD9095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53D-6ED1-4AA3-95E9-F663C3C1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9BA-CC16-4C7E-B173-16D9192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EDF-A839-4736-8EEC-7F35DB6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D84-C78C-418B-83F9-D47A47F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FDDF8E-E4B5-41D2-A743-910B8B56E9A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Егорьевского 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год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 и плановый период 2022-2023 г.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Егорь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Егорь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 и плановый период 20212-2023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349360"/>
          <a:ext cx="8353440" cy="4561200"/>
        </p:xfrm>
        <a:graphic>
          <a:graphicData uri="http://schemas.openxmlformats.org/drawingml/2006/table">
            <a:tbl>
              <a:tblPr/>
              <a:tblGrid>
                <a:gridCol w="2670120"/>
                <a:gridCol w="1567080"/>
                <a:gridCol w="1560240"/>
                <a:gridCol w="2556000"/>
              </a:tblGrid>
              <a:tr h="100836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9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1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7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6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9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Егорь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н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1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2166,7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991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8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095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рь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на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1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38160" y="2492280"/>
          <a:ext cx="910584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160" y="2492280"/>
                    <a:ext cx="910584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н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 и плановый период 2022-2023 г.г.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31040" cy="4662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68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Условно утвержденны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09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87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35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9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3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3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3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Microsoft YaHei"/>
                        </a:rPr>
                        <a:t>Обслуживание государственного и муниципального долг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66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49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33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Егорьев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ск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2021 год и плановый период 2022-2023 г.г.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9002880" cy="578952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Профилактика правонарушений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Егорьевский сельсовет» Касторенского района Курской области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"Социальная поддержка граждан в МО «Егорьевский сельсовет"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. 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1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773360"/>
          <a:ext cx="8231040" cy="508464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13287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2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3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318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2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3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32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5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Microsoft YaHei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96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54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2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068640"/>
          <a:ext cx="8231040" cy="576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58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0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87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35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2-02-27T17:56:50Z</dcterms:modified>
  <cp:revision>81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