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FBF-B722-498F-8A19-A857F4C5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2F9-6DBA-4794-A9D9-41BF747F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0E3-20E5-420C-BA3B-5566082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3C3-B0DF-49CC-ACB2-802D5FA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BEE-6969-451E-B3D5-1CCDC4A1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A48-F6AA-4BE3-9669-C8BF3EB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92A-2C63-4F2C-9F3D-4A2CC030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1D3-F82B-4E20-AC44-F3B5BD8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6AB-75E3-4591-BB68-5135B3A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47A-7668-43C0-8CBD-2A057EC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CC0-4F1A-4719-8B61-FBB59AC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DC2-1179-4001-AD7A-9B6D47F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77879C-81BE-413D-ABFA-54084745AF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горьевског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сельсовета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Ya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0г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ого сельсовета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9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506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578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07,1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20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ого сельсовет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0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ого сельсовета 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0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195640"/>
          <a:ext cx="8231040" cy="7437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507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57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3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8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3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ского сельсовета 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0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7380360" cy="83250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42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муниципальной служб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Егорьевский 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Профилактика правонаруше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Егорьев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3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Муниципальная программа «Энергосбережение и повышение энергетической эффективности М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Егорьевский сельсовет» Касторенского  района Курской обла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8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ания Егорьевского сельсовета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0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857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8,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51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97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2-02-27T19:42:01Z</dcterms:modified>
  <cp:revision>85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