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6FFD-68A4-4087-B777-26A1A3B6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C575-D7E7-4A44-9952-EBC7F909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EF39-B85F-4F74-900C-71AC6CFBA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2CA2-6419-4A82-BBCB-DB5950888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C1AF-3D70-4A60-9BEC-31814316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ABDA-C458-4591-AF97-A46A9454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B512-5529-4F6E-A2A4-1510C26F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F96F-F017-46E4-A5F2-9F03094A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856F-84BF-413D-B0CB-9118BCBA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CBBD-57D1-45CC-A7D1-95056548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1406-CF87-4DB8-846E-3AA6101A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F0D5-6891-46D7-A7FE-8BE351CE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87A696-178C-4A8F-88D4-6CA1418662E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Georgia"/>
              </a:rPr>
              <a:t>БЮДЖЕТ ДЛЯ ГРАЖДАН</a:t>
            </a:r>
            <a:br>
              <a:rPr sz="4400"/>
            </a:br>
            <a:r>
              <a:rPr b="0" lang="ru-RU" sz="4900" spc="-1" strike="noStrike">
                <a:solidFill>
                  <a:srgbClr val="ff0000"/>
                </a:solidFill>
                <a:latin typeface="Arial"/>
              </a:rPr>
              <a:t>Егорьевского сельсовета</a:t>
            </a:r>
            <a:r>
              <a:rPr b="0" lang="ru-RU" sz="4900" spc="-1" strike="noStrike">
                <a:solidFill>
                  <a:srgbClr val="ff0000"/>
                </a:solidFill>
                <a:latin typeface="Georgia"/>
              </a:rPr>
              <a:t> Касторенского района Курской области на </a:t>
            </a:r>
            <a:br>
              <a:rPr sz="4900"/>
            </a:br>
            <a:r>
              <a:rPr b="0" lang="ru-RU" sz="4900" spc="-1" strike="noStrike">
                <a:solidFill>
                  <a:srgbClr val="ff0000"/>
                </a:solidFill>
                <a:latin typeface="Microsoft YaHei"/>
              </a:rPr>
              <a:t>20</a:t>
            </a:r>
            <a:r>
              <a:rPr b="0" lang="ru-RU" sz="49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0" lang="ru-RU" sz="4900" spc="-1" strike="noStrike">
                <a:solidFill>
                  <a:srgbClr val="ff0000"/>
                </a:solidFill>
                <a:latin typeface="Georgia"/>
              </a:rPr>
              <a:t> год</a:t>
            </a:r>
            <a:r>
              <a:rPr b="0" lang="ru-RU" sz="4900" spc="-1" strike="noStrike">
                <a:solidFill>
                  <a:srgbClr val="ff0000"/>
                </a:solidFill>
                <a:latin typeface="Arial"/>
              </a:rPr>
              <a:t> и плановый период 2023-2024 г.г.</a:t>
            </a:r>
            <a:r>
              <a:rPr b="0" lang="ru-RU" sz="4900" spc="-1" strike="noStrike">
                <a:solidFill>
                  <a:srgbClr val="ff0000"/>
                </a:solidFill>
                <a:latin typeface="Georgia"/>
              </a:rPr>
              <a:t> 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Муниципальный бюджет – это форма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 образования и расходования денежных средств, предназначенных для финансового обеспечения задач и функций органов местного самоуправления</a:t>
            </a: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 rot="16200000">
            <a:off x="1475640" y="1917000"/>
            <a:ext cx="1727280" cy="3456000"/>
          </a:xfrm>
          <a:prstGeom prst="horizontalScroll">
            <a:avLst>
              <a:gd name="adj" fmla="val 12500"/>
            </a:avLst>
          </a:prstGeom>
          <a:solidFill>
            <a:srgbClr val="efc7e4">
              <a:alpha val="50000"/>
            </a:srgbClr>
          </a:solidFill>
          <a:ln cap="sq"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Доходы бюджета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поступающ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в бюджет денеж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редства в вид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налоговых , неналоговых 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безвозмездных поступл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 rot="16200000">
            <a:off x="6084000" y="1989720"/>
            <a:ext cx="1800000" cy="3382920"/>
          </a:xfrm>
          <a:prstGeom prst="horizontalScroll">
            <a:avLst>
              <a:gd name="adj" fmla="val 12500"/>
            </a:avLst>
          </a:prstGeom>
          <a:solidFill>
            <a:srgbClr val="abbafb">
              <a:alpha val="50000"/>
            </a:srgbClr>
          </a:solidFill>
          <a:ln cap="sq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Расходы бюджета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денеж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редства, направляем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на финансовое обеспеч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задач и функций орган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естного само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468360" y="4653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f8bda6">
              <a:alpha val="50000"/>
            </a:srgbClr>
          </a:solidFill>
          <a:ln cap="sq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Де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расходов бюджета над его доход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68360" y="5661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b4faa4">
              <a:alpha val="50000"/>
            </a:srgbClr>
          </a:solidFill>
          <a:ln cap="sq"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Про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доходов бюджета над его расхода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a50021"/>
                </a:solidFill>
                <a:latin typeface="Georgia"/>
              </a:rPr>
              <a:t>Составление бюджета основывается на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0" y="1844640"/>
            <a:ext cx="4608360" cy="2160720"/>
          </a:xfrm>
          <a:custGeom>
            <a:avLst/>
            <a:gdLst>
              <a:gd name="textAreaLeft" fmla="*/ 576000 w 4608360"/>
              <a:gd name="textAreaRight" fmla="*/ 4032360 w 460836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2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юджетном посл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Президен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4572000" y="184464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3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Основных направлен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юджетной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налоговой поли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4606920" y="4437000"/>
            <a:ext cx="4537080" cy="2160720"/>
          </a:xfrm>
          <a:custGeom>
            <a:avLst/>
            <a:gdLst>
              <a:gd name="textAreaLeft" fmla="*/ 567000 w 4537080"/>
              <a:gd name="textAreaRight" fmla="*/ 3970080 w 453708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4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Муниципальных программ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Админи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Егорьев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ельсов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0" y="443700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5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Прогноз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социально-экономиче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развития М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«Егорьев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ельсов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Основные параметры бюджета 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Егорьевского сельсовета</a:t>
            </a: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Касторенского района </a:t>
            </a: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Курской области на 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2022</a:t>
            </a: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 год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 и плановый период 2023-2024 г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95280" y="2349360"/>
          <a:ext cx="8353440" cy="4561200"/>
        </p:xfrm>
        <a:graphic>
          <a:graphicData uri="http://schemas.openxmlformats.org/drawingml/2006/table">
            <a:tbl>
              <a:tblPr/>
              <a:tblGrid>
                <a:gridCol w="2670120"/>
                <a:gridCol w="1567080"/>
                <a:gridCol w="1560240"/>
                <a:gridCol w="2556000"/>
              </a:tblGrid>
              <a:tr h="100836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год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год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год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73332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оходы – 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тыс. рубл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4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6,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3,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131112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том чи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бственные доходы (тыс.рубл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9,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4,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835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сходы – 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тыс. рубл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4,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6,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3,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673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ефицит местного бюдже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Доходы бюджета 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Егорьевского сельсовета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 на </a:t>
            </a:r>
            <a:r>
              <a:rPr b="1" i="1" lang="ru-RU" sz="3000" spc="-1" strike="noStrike">
                <a:solidFill>
                  <a:srgbClr val="c61e0c"/>
                </a:solidFill>
                <a:latin typeface="Microsoft YaHei"/>
              </a:rPr>
              <a:t>20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22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179280" y="1844640"/>
            <a:ext cx="8458200" cy="4458960"/>
            <a:chOff x="179280" y="1844640"/>
            <a:chExt cx="8458200" cy="4458960"/>
          </a:xfrm>
        </p:grpSpPr>
        <p:cxnSp>
          <p:nvCxnSpPr>
            <p:cNvPr id="60" name="AutoShape 4"/>
            <p:cNvCxnSpPr>
              <a:stCxn id="61" idx="0"/>
            </p:cNvCxnSpPr>
            <p:nvPr/>
          </p:nvCxnSpPr>
          <p:spPr>
            <a:xfrm flipV="1" rot="16200000">
              <a:off x="5442480" y="2605680"/>
              <a:ext cx="891720" cy="2964600"/>
            </a:xfrm>
            <a:prstGeom prst="bentConnector3">
              <a:avLst>
                <a:gd name="adj1" fmla="val 4975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62" name="AutoShape 5"/>
            <p:cNvCxnSpPr>
              <a:stCxn id="63" idx="0"/>
            </p:cNvCxnSpPr>
            <p:nvPr/>
          </p:nvCxnSpPr>
          <p:spPr>
            <a:xfrm flipV="1" rot="16200000">
              <a:off x="3962520" y="4087440"/>
              <a:ext cx="891720" cy="1080"/>
            </a:xfrm>
            <a:prstGeom prst="bentConnector2">
              <a:avLst/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64" name="AutoShape 6"/>
            <p:cNvCxnSpPr>
              <a:stCxn id="65" idx="0"/>
            </p:cNvCxnSpPr>
            <p:nvPr/>
          </p:nvCxnSpPr>
          <p:spPr>
            <a:xfrm flipH="1" flipV="1" rot="5400000">
              <a:off x="2481480" y="2608200"/>
              <a:ext cx="891720" cy="2959560"/>
            </a:xfrm>
            <a:prstGeom prst="bentConnector3">
              <a:avLst>
                <a:gd name="adj1" fmla="val 4975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66" name="AutoShape 7"/>
            <p:cNvGrpSpPr/>
            <p:nvPr/>
          </p:nvGrpSpPr>
          <p:grpSpPr>
            <a:xfrm>
              <a:off x="3108240" y="1844640"/>
              <a:ext cx="2597400" cy="1829520"/>
              <a:chOff x="3108240" y="1844640"/>
              <a:chExt cx="2597400" cy="1829520"/>
            </a:xfrm>
          </p:grpSpPr>
          <p:pic>
            <p:nvPicPr>
              <p:cNvPr id="67" name="AutoShap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08240" y="1844640"/>
                <a:ext cx="2597400" cy="182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3226320" y="1958760"/>
                <a:ext cx="2361960" cy="159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Arial"/>
                  </a:rPr>
                  <a:t>2314,9</a:t>
                </a: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</a:rPr>
                  <a:t> 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" name="AutoShape 8"/>
            <p:cNvSpPr/>
            <p:nvPr/>
          </p:nvSpPr>
          <p:spPr>
            <a:xfrm>
              <a:off x="179280" y="4533840"/>
              <a:ext cx="253548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923,9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AutoShape 9"/>
            <p:cNvSpPr/>
            <p:nvPr/>
          </p:nvSpPr>
          <p:spPr>
            <a:xfrm>
              <a:off x="3139920" y="4533840"/>
              <a:ext cx="253548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96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AutoShape 10"/>
            <p:cNvSpPr/>
            <p:nvPr/>
          </p:nvSpPr>
          <p:spPr>
            <a:xfrm>
              <a:off x="6102360" y="4533840"/>
              <a:ext cx="253512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1295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0" lang="ru-RU" sz="2800" spc="-1" strike="noStrike">
                <a:solidFill>
                  <a:srgbClr val="0033cc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Егорьевского сельсовета</a:t>
            </a:r>
            <a:r>
              <a:rPr b="0" lang="ru-RU" sz="4000" spc="-1" strike="noStrike">
                <a:solidFill>
                  <a:srgbClr val="0033cc"/>
                </a:solidFill>
                <a:latin typeface="Georgi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33cc"/>
                </a:solidFill>
                <a:latin typeface="Georgia"/>
              </a:rPr>
              <a:t>на </a:t>
            </a: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2022</a:t>
            </a:r>
            <a:r>
              <a:rPr b="0" lang="ru-RU" sz="4000" spc="-1" strike="noStrike">
                <a:solidFill>
                  <a:srgbClr val="0033cc"/>
                </a:solidFill>
                <a:latin typeface="Georgia"/>
              </a:rPr>
              <a:t>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3"/>
          <p:cNvGraphicFramePr/>
          <p:nvPr/>
        </p:nvGraphicFramePr>
        <p:xfrm>
          <a:off x="38160" y="2492280"/>
          <a:ext cx="9105840" cy="501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160" y="2492280"/>
                    <a:ext cx="9105840" cy="50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Расходы бюджета муниципального образования «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Егорьевский сельсовет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»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Касторенского района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 Курской области на 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2022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 год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 и плановый период 2023-2024 г.г.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 (тыс.руб.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8360" y="2060640"/>
          <a:ext cx="8231040" cy="466236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7400"/>
                <a:gridCol w="2057400"/>
              </a:tblGrid>
              <a:tr h="2689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22 го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23 го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24 го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Условно утвержденные расход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2,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4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Общегосударственные вопрос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469,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42,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9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Нацио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альная 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оборона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2,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5,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8,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Культур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96,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19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19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2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Microsoft YaHei"/>
                        </a:rPr>
                        <a:t>Обслуживание государственного и муниципального долг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5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ВСЕГО РАСХОД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314,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396,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383,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979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«Программная» структура бюджета </a:t>
            </a:r>
            <a:r>
              <a:rPr b="0" lang="ru-RU" sz="2400" spc="-1" strike="noStrike">
                <a:solidFill>
                  <a:srgbClr val="1818d2"/>
                </a:solidFill>
                <a:latin typeface="Arial"/>
              </a:rPr>
              <a:t>Егорьев</a:t>
            </a: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ск</a:t>
            </a:r>
            <a:r>
              <a:rPr b="0" lang="ru-RU" sz="2400" spc="-1" strike="noStrike">
                <a:solidFill>
                  <a:srgbClr val="1818d2"/>
                </a:solidFill>
                <a:latin typeface="Arial"/>
              </a:rPr>
              <a:t>ого сельсовета Касторенского района</a:t>
            </a: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 Курской области </a:t>
            </a:r>
            <a:r>
              <a:rPr b="0" lang="ru-RU" sz="2400" spc="-1" strike="noStrike">
                <a:solidFill>
                  <a:srgbClr val="1818d2"/>
                </a:solidFill>
                <a:latin typeface="Arial"/>
              </a:rPr>
              <a:t>на</a:t>
            </a: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1818d2"/>
                </a:solidFill>
                <a:latin typeface="Arial"/>
              </a:rPr>
              <a:t>2022 год и плановый период 2023-2024 г.г.</a:t>
            </a: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 (тыс.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0" y="2205000"/>
          <a:ext cx="9002880" cy="5789520"/>
        </p:xfrm>
        <a:graphic>
          <a:graphicData uri="http://schemas.openxmlformats.org/drawingml/2006/table">
            <a:tbl>
              <a:tblPr/>
              <a:tblGrid>
                <a:gridCol w="6603840"/>
                <a:gridCol w="776520"/>
                <a:gridCol w="776160"/>
                <a:gridCol w="846360"/>
              </a:tblGrid>
              <a:tr h="485640">
                <a:tc rowSpan="2"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Расходы на реализацию муниципальных программ, в том числе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62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43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43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1. Муниципальная программа «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Развитие муниципальной службы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2. Муниципальная программа «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Профилактика правонарушений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3. Муниципальная программа  «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Защита населения и территории от чрезвычайных ситуаций, обеспечение пожарной безопасности и безопасности людей на водных объектах в муниципальном образовании «Егорьевский сельсовет» Касторенского района Курской области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4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ая программа "Социальная поддержка граждан в МО «Егорьевский сельсовет" Касторенского района Курской области»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5. Муниципальная программа «Управление муниципальным имуществом и земельными ресурсам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6. Муниципальная программа «Обеспечение доступным и комфортным жильем и коммунальными услугами граждан в муниципальном образовании «Егорьевский сельсовет» Касторенского района Курской област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. Муниципальная программа  «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Развитие культуры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596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419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419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Расходы на общегосударственные вопросы 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муниципального образования «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Егорьевский сельсовет» Касторенского района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 Курской области (тыс.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8360" y="1773360"/>
          <a:ext cx="8231040" cy="5084640"/>
        </p:xfrm>
        <a:graphic>
          <a:graphicData uri="http://schemas.openxmlformats.org/drawingml/2006/table">
            <a:tbl>
              <a:tblPr/>
              <a:tblGrid>
                <a:gridCol w="4979880"/>
                <a:gridCol w="1152720"/>
                <a:gridCol w="1079280"/>
                <a:gridCol w="1019160"/>
              </a:tblGrid>
              <a:tr h="13287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Показатель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022</a:t>
                      </a: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 го</a:t>
                      </a: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д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023 год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024 год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щегосударственные вопросы,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318,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18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29,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еспечение функционирования главы муниципального образовани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66,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еспечение деятельности администрации муниципального образовани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81,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85,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85,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Microsoft YaHei"/>
                        </a:rPr>
                        <a:t>Обеспечение деятельности финансовых, налоговых и таможенных органов и органов финансового (финансово-бюджетного) надзор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9,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9,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9,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Другие общегосударственные вопрос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71,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0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0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68360" y="3068640"/>
          <a:ext cx="8231040" cy="576360"/>
        </p:xfrm>
        <a:graphic>
          <a:graphicData uri="http://schemas.openxmlformats.org/drawingml/2006/table">
            <a:tbl>
              <a:tblPr/>
              <a:tblGrid>
                <a:gridCol w="4979880"/>
                <a:gridCol w="1152720"/>
                <a:gridCol w="1079280"/>
                <a:gridCol w="1019160"/>
              </a:tblGrid>
              <a:tr h="58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469,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42,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9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9T18:34:03Z</dcterms:created>
  <dc:creator>Admin</dc:creator>
  <dc:description/>
  <dc:language>en-US</dc:language>
  <cp:lastModifiedBy>TOSHIBA</cp:lastModifiedBy>
  <dcterms:modified xsi:type="dcterms:W3CDTF">2023-02-22T04:20:02Z</dcterms:modified>
  <cp:revision>82</cp:revision>
  <dc:subject/>
  <dc:title>БЮДЖЕТ ДЛЯ ГРАЖДАН     муниципального образования «Стакановский сельсовет» Черемисиновского района Курской области на 2015 год  и на плановый период  2016 и 2017 годов</dc:title>
</cp:coreProperties>
</file>