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979-D789-466A-BD89-1995CE7C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87C-3B18-46E0-9DE6-5B0F4309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FD1-8925-4785-ABC9-F0D47849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5ED-90AD-462C-9B28-3D0A689A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9E5-8C58-49CF-AB1F-19379F76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A9C-EBDE-4BE3-B9C5-464A0A4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9FB-F97B-4F7A-8913-FC14E28A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C27-4192-4845-8A8A-10B333B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89C-FBFB-49AC-BEF6-013669D4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84F-B30B-4C68-AA92-F878450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43C-2A57-4C28-AEF2-52A204EB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06C-823A-4929-84E4-C4D5957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093C18-6B00-4658-BAEE-ABDF6561D5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«Егорьевский сельсовет»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JhengHei"/>
              </a:rPr>
              <a:t>20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ru-RU" sz="4900" spc="-1" strike="noStrike">
                <a:solidFill>
                  <a:srgbClr val="ff0000"/>
                </a:solidFill>
                <a:latin typeface="Microsoft Himalaya"/>
              </a:rPr>
              <a:t>г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Егорь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Егорь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9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0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6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Егорь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1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4217,6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963,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96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157,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рьевский сельсовет</a:t>
            </a: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»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1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1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060640"/>
          <a:ext cx="8231040" cy="46623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76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8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лищно-коммунальное хозяйств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Microsoft Yi Baiti"/>
                          <a:ea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13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41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6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950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95280" y="2781360"/>
          <a:ext cx="8292600" cy="925200"/>
        </p:xfrm>
        <a:graphic>
          <a:graphicData uri="http://schemas.openxmlformats.org/drawingml/2006/table">
            <a:tbl>
              <a:tblPr/>
              <a:tblGrid>
                <a:gridCol w="2072520"/>
                <a:gridCol w="2074680"/>
                <a:gridCol w="2072880"/>
                <a:gridCol w="2072520"/>
              </a:tblGrid>
              <a:tr h="92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Егорьев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ский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 сельсовет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21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2205000"/>
          <a:ext cx="7380360" cy="530244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94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Муниципальная программа «Развитие транспортной системы, обеспечение перевозки пассажиров в муниципальном образовании «Егорьевский сельсовет» Касторенского района Курской области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4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4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храна окружающей среды МО"Егорьевский сельсовет" Касторенского района Курской области"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96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Социальная поддержка граждан в  МО «Егорьевский сельсовет» Касторенского 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7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912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13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16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82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3-02-22T03:50:39Z</dcterms:modified>
  <cp:revision>83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