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8BF-3785-4FA5-ADC3-B569F79B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AB5-2B97-4814-878B-3066017B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39A-C141-45BD-AD8E-5507544B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20A-2C51-409E-BC6B-9A83D570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450-BF6D-466D-ADAE-2E8267BD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0F1-E62F-499D-8EF0-6CB8EDE1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500-46DE-4931-A731-6AC3BB9C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0F5-ADA3-457E-88FF-A616A592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254-9132-456B-9279-551342DB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17C-0E04-47F7-9928-476942BE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4DA-B796-42A9-9754-3B89CF30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AA8-7831-4CDC-AAB0-6AB4C189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E4A083-5D6E-4DFB-8A75-F37FA18745C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довой отчет об исполнении бюджета 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«Егорьевский сельсовет»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JhengHei"/>
              </a:rPr>
              <a:t>201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4900" spc="-1" strike="noStrike">
                <a:solidFill>
                  <a:srgbClr val="ff0000"/>
                </a:solidFill>
                <a:latin typeface="Microsoft Himalaya"/>
              </a:rPr>
              <a:t>г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Arial"/>
              </a:rPr>
              <a:t>Б</a:t>
            </a: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юджет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Егорь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Егорь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Егорьевский сельсовет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за 201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8000" y="2297160"/>
          <a:ext cx="5619600" cy="4560840"/>
        </p:xfrm>
        <a:graphic>
          <a:graphicData uri="http://schemas.openxmlformats.org/drawingml/2006/table">
            <a:tbl>
              <a:tblPr/>
              <a:tblGrid>
                <a:gridCol w="2670120"/>
                <a:gridCol w="2949480"/>
              </a:tblGrid>
              <a:tr h="10080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9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4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/пр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Егорьевского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з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9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3288,5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959,1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80,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249,4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Егорьевский сельсовет</a:t>
            </a: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»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19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-324000" y="2421000"/>
          <a:ext cx="910620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2421000"/>
                    <a:ext cx="910620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Егорьевский сельсовет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19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060640"/>
          <a:ext cx="8231040" cy="466236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276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15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8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лищно-коммунальное хозяйств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Microsoft Yi Baiti"/>
                          <a:ea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46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75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74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" y="3079800"/>
          <a:ext cx="8231040" cy="6984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39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Егорьев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ский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 сельсовет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»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за 2019 год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2205000"/>
          <a:ext cx="7380360" cy="530244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</a:tblGrid>
              <a:tr h="48564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26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муниципальной служб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. Муниципальная программа «Развитие транспортной системы, обеспечение перевозки пассажиров в муниципальном образовании «Егорьевский сельсовет» Касторенского района Курской области и безопасности дорожного движ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культур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4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Охрана окружающей среды МО"Егорьевский сельсовет" Касторенского района Курской области"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Егорьевский сельсовет» Касторенского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Социальная поддержка граждан в  МО «Егорьевский сельсовет» Касторенского 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7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Егорьевский сельсовет»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76360" y="2205000"/>
          <a:ext cx="613260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19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915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22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18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74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TOSHIBA</cp:lastModifiedBy>
  <dcterms:modified xsi:type="dcterms:W3CDTF">2021-02-24T15:44:19Z</dcterms:modified>
  <cp:revision>82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