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CF9-BAD3-40C9-8BF5-58A7C406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5F3-48EF-41F1-822B-CF812F02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C2F-283D-48BB-AECE-DDA59D00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060-29EB-4C13-A182-C7B96A64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862-768A-49E2-B232-741A62DB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E96-3E6F-4353-9EFD-D6E8CFF0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A2B-01C0-44D4-A136-E8E14C24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8E1-C1FB-4BAA-8118-EADD396C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528-D74E-4D3D-B1A7-878A530B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2B7-A16F-4891-AB86-F05017D1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5EB-9C8B-4777-B74F-2AEBE27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C33-1FAC-496D-BF94-0C2D64CF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E9920E-93C3-4685-A1FE-8E09A038DC5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довой отчет об исполнении бюджета 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«Егорьевский сельсовет»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JhengHei"/>
              </a:rPr>
              <a:t>20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ru-RU" sz="4900" spc="-1" strike="noStrike">
                <a:solidFill>
                  <a:srgbClr val="ff0000"/>
                </a:solidFill>
                <a:latin typeface="Microsoft Himalaya"/>
              </a:rPr>
              <a:t>г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юджет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Егорь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Егорьев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ий сельсовет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за 202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8000" y="2297160"/>
          <a:ext cx="5619600" cy="4560840"/>
        </p:xfrm>
        <a:graphic>
          <a:graphicData uri="http://schemas.openxmlformats.org/drawingml/2006/table">
            <a:tbl>
              <a:tblPr/>
              <a:tblGrid>
                <a:gridCol w="2670120"/>
                <a:gridCol w="2949480"/>
              </a:tblGrid>
              <a:tr h="10080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1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4,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5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1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/пр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01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Егорьевского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22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4522,8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612,9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5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857,9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Егорьевский сельсовет</a:t>
            </a: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»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22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324000" y="2421000"/>
          <a:ext cx="9106200" cy="501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242100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Егорьевский сельсовет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22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060640"/>
          <a:ext cx="8207280" cy="6313320"/>
        </p:xfrm>
        <a:graphic>
          <a:graphicData uri="http://schemas.openxmlformats.org/drawingml/2006/table">
            <a:tbl>
              <a:tblPr/>
              <a:tblGrid>
                <a:gridCol w="4680000"/>
                <a:gridCol w="352728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98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ая безопасность и правоохранительная деятельнос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иональная эконом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39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щно-коммунальное хозяйств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1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37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лит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2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721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Егорьев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ский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 сельсовет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за 2022 год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205000"/>
          <a:ext cx="8604360" cy="5524560"/>
        </p:xfrm>
        <a:graphic>
          <a:graphicData uri="http://schemas.openxmlformats.org/drawingml/2006/table">
            <a:tbl>
              <a:tblPr/>
              <a:tblGrid>
                <a:gridCol w="6603840"/>
                <a:gridCol w="2000520"/>
              </a:tblGrid>
              <a:tr h="30312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52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 в Егорьевском сельсовете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в Егорьевском сельсовете Касторенского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7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униципальная программа «Управление муниципальным имуществом и земельными ресурсами в Егорьевском сельсовете Касторенского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Обеспечение доступным и комфортным жильем и коммунальными услугами граждан в  Егорьевском сельсовете Касторенского района Курской област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6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Охрана окружающей среды в  Егорьевском сельсовете Касторенского  района Курской области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Развитие культуры в Егорьевском сельсовете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3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ая программа «Социальная поддержка граждан в Егорьевском сельсовете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1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Егорьевский сельсовет»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76360" y="2205000"/>
          <a:ext cx="61326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2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98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8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76,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214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TOSHIBA</cp:lastModifiedBy>
  <dcterms:modified xsi:type="dcterms:W3CDTF">2024-03-07T05:53:13Z</dcterms:modified>
  <cp:revision>84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